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DA3C-EDB2-4AAD-9E3B-DEA5FDFF45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3.6 Oils and F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s and F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tru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s and fats – important for storing chemical energy in living th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s are liquids – fats are sol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from esters of propane-1,2,3,triol (glycerol) + long chain carboxylic acids RCOO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tru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s and fats – important for storing chemical energy in living th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s are liquids – fats are sol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from esters of propane-1,2,3,triol (glycerol) + long chain carboxylic acids RCOO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 11 Common fatty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 11 Common fatty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tri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esters (triglycerides) – 3 carboxylic acids react with tri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xed triesters – three acid groups, not all alike often found in natural oils and f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tri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esters (triglycerides) – 3 carboxylic acids react with tri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xed triesters – three acid groups, not all alike often found in natural oils and f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s and fatty ac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branched hydrocarbon ch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fatty acids – occur in fats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y unsaturated / 3 or 4 double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 known by old names – systematic names too l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to cause blockage of blood vessels and heart disease, especially the saturated 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s and fatty ac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branched hydrocarbon ch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fatty acids – occur in fats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y unsaturated / 3 or 4 double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 known by old names – systematic names too l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to cause blockage of blood vessels and heart disease, especially the saturated 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 fact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oils and fats are mixtures of tries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split up by hydrolysis, heat with conc. NaO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ester + NaOH  glycerol + sodium salt of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s of soap manufacture eg. “Palmoliv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odium salts to free acids by adding dil. HCl or other mineral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 fact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oils and fats are mixtures of tries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split up by hydrolysis, heat with conc. NaO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ester + NaOH  glycerol + sodium salt of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s of soap manufacture eg. “Palmoliv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odium salts to free acids by adding dil. HCl or other mineral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or...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ty acids present in mixture affect the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ated triglycerides pack closely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active forces - higher melting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or...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ty acids present in mixture affect the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ated triglycerides pack closely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active forces - higher melting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Liqu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saturated triglyceride molecules cannot pack closely together because of cis double bonds - causes kink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olecular forces are weak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energy needed to separate molecules - lower melting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Liqu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saturated triglyceride molecules cannot pack closely together because of cis double bonds - causes kink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olecular forces are weak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energy needed to separate molecules - lower melting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ing oil to f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natural oils need processing to make them fit for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ation of unsaturated oils - make margar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led hydrogenation makes oils more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s H2 through heated oil - nickel cataly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flavourings, salt, vitamin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ing oil to f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natural oils need processing to make them fit for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ation of unsaturated oils - make margar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led hydrogenation makes oils more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s H2 through heated oil - nickel cataly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flavourings, salt, vitamin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D9F8-7812-4C1F-A85E-BD88602C9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8F89-6112-48EC-A836-07B490EF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8543-BA82-4BA3-A9B0-A40265B1F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6B23-D5B9-46D8-A64B-505540F9F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BB5F-B167-49D3-A028-48000543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DEC3-9405-4B89-B9DA-7ECEF624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246F-FA6D-476C-ABDE-E523B4CC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724D-8384-403B-A8DB-B8DBA87B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A16D-88C9-4D18-9A8A-C53A1C22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B886-84B0-423B-B353-2EFB93C3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9F39-03A2-43BD-929C-71D76A17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8030-0F2F-40CD-AB38-297A8559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18B9-5F15-48D2-ABA1-E06EFEBDE5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3.6 Oils and F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5"/>
          <p:cNvGraphicFramePr/>
          <p:nvPr/>
        </p:nvGraphicFramePr>
        <p:xfrm>
          <a:off x="2057400" y="3581280"/>
          <a:ext cx="1738440" cy="215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581280"/>
                    <a:ext cx="173844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6"/>
          <p:cNvGraphicFramePr/>
          <p:nvPr/>
        </p:nvGraphicFramePr>
        <p:xfrm>
          <a:off x="5181480" y="4038480"/>
          <a:ext cx="2057400" cy="134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4038480"/>
                    <a:ext cx="2057400" cy="13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ourier New"/>
              </a:rPr>
              <a:t>Chemical structu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Oils and fats – important for storing chemical energy in living th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Oils are liquids – fats are soli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de from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ester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of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propane-1,2,3,triol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(glycerol) + long chain carboxylic acids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RCOOH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Object 5"/>
          <p:cNvGraphicFramePr/>
          <p:nvPr/>
        </p:nvGraphicFramePr>
        <p:xfrm>
          <a:off x="1676520" y="4343400"/>
          <a:ext cx="6457680" cy="215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343400"/>
                    <a:ext cx="645768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fatty acids"/>
          <p:cNvPicPr/>
          <p:nvPr/>
        </p:nvPicPr>
        <p:blipFill>
          <a:blip r:embed="rId1"/>
          <a:stretch/>
        </p:blipFill>
        <p:spPr>
          <a:xfrm>
            <a:off x="457200" y="1981080"/>
            <a:ext cx="8282160" cy="30481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able 11 Common fatty ac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ypes of tries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Triesters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triglycerides)</a:t>
            </a:r>
            <a:r>
              <a:rPr b="0" lang="en-GB" sz="24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– 3 carboxylic acids react with tri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Mixed triesters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– three acid groups, not all alike often found in natural oils and f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5"/>
          <p:cNvGraphicFramePr/>
          <p:nvPr/>
        </p:nvGraphicFramePr>
        <p:xfrm>
          <a:off x="609480" y="2362320"/>
          <a:ext cx="4496040" cy="266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362320"/>
                    <a:ext cx="449604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ourier New"/>
              </a:rPr>
              <a:t>Fats and fatty acid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Unbranched hydrocarbon cha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alled fatty acids – occur in fat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lly unsaturated / 3 or 4 double b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till known by old names – systematic names too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hought to cause blockage of blood vessels and heart disease, especially the saturated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5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0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5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t fact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atural oils and fats are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mixtures of triester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an be split up by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hydrolysis,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heat with conc. NaO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urier New"/>
              </a:rPr>
              <a:t>Triester + NaOH </a:t>
            </a:r>
            <a:r>
              <a:rPr b="1" lang="en-GB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</a:rPr>
              <a:t> glycerol + sodium salt of a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Basis of soap manufacture eg. </a:t>
            </a:r>
            <a:r>
              <a:rPr b="0" i="1" lang="en-GB" sz="2400" spc="-1" strike="noStrike">
                <a:solidFill>
                  <a:srgbClr val="000000"/>
                </a:solidFill>
                <a:latin typeface="Courier New"/>
              </a:rPr>
              <a:t>“Palmoliv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nvert sodium salts to free acids by adding dil. HCl or other mineral ac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lid or...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3809880"/>
            <a:ext cx="7238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tty acids present in mixture affect the proper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aturated triglycerides pack closely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ttractive forces - higher melting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3" descr="satgly"/>
          <p:cNvPicPr/>
          <p:nvPr/>
        </p:nvPicPr>
        <p:blipFill>
          <a:blip r:embed="rId1"/>
          <a:stretch/>
        </p:blipFill>
        <p:spPr>
          <a:xfrm>
            <a:off x="685800" y="1600200"/>
            <a:ext cx="7848720" cy="1868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Object 14"/>
          <p:cNvGraphicFramePr/>
          <p:nvPr/>
        </p:nvGraphicFramePr>
        <p:xfrm>
          <a:off x="914400" y="657360"/>
          <a:ext cx="1752480" cy="114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657360"/>
                    <a:ext cx="1752480" cy="114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r Liqui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41907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saturated triglyceride molecules cannot pack closely together because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ouble bonds - causes kink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molecular forces are weak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ss energy needed to separate molecules - lower melting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8" descr="unsatgly"/>
          <p:cNvPicPr/>
          <p:nvPr/>
        </p:nvPicPr>
        <p:blipFill>
          <a:blip r:embed="rId1"/>
          <a:stretch/>
        </p:blipFill>
        <p:spPr>
          <a:xfrm>
            <a:off x="1219320" y="1371600"/>
            <a:ext cx="5867280" cy="277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Object 9"/>
          <p:cNvGraphicFramePr/>
          <p:nvPr/>
        </p:nvGraphicFramePr>
        <p:xfrm>
          <a:off x="838080" y="685800"/>
          <a:ext cx="1430280" cy="17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685800"/>
                    <a:ext cx="143028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verting oil to fa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3962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st natural oils need processing to make them fit for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ydrogenatio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unsaturated oils - make margar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ontroll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hydrogenation makes oils more sol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ss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hrough heated oil - nickel cataly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d flavourings, salt, vitamin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31"/>
          <p:cNvGrpSpPr/>
          <p:nvPr/>
        </p:nvGrpSpPr>
        <p:grpSpPr>
          <a:xfrm>
            <a:off x="609480" y="914400"/>
            <a:ext cx="8344080" cy="2857680"/>
            <a:chOff x="609480" y="914400"/>
            <a:chExt cx="8344080" cy="2857680"/>
          </a:xfrm>
        </p:grpSpPr>
        <p:grpSp>
          <p:nvGrpSpPr>
            <p:cNvPr id="81" name="Group 32"/>
            <p:cNvGrpSpPr/>
            <p:nvPr/>
          </p:nvGrpSpPr>
          <p:grpSpPr>
            <a:xfrm>
              <a:off x="609480" y="914400"/>
              <a:ext cx="8344080" cy="2400480"/>
              <a:chOff x="609480" y="914400"/>
              <a:chExt cx="8344080" cy="2400480"/>
            </a:xfrm>
          </p:grpSpPr>
          <p:sp>
            <p:nvSpPr>
              <p:cNvPr id="82" name="Line 33"/>
              <p:cNvSpPr/>
              <p:nvPr/>
            </p:nvSpPr>
            <p:spPr>
              <a:xfrm flipV="1">
                <a:off x="4200480" y="22874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" name="Group 34"/>
              <p:cNvGrpSpPr/>
              <p:nvPr/>
            </p:nvGrpSpPr>
            <p:grpSpPr>
              <a:xfrm>
                <a:off x="609480" y="914400"/>
                <a:ext cx="8344080" cy="2400480"/>
                <a:chOff x="609480" y="914400"/>
                <a:chExt cx="8344080" cy="2400480"/>
              </a:xfrm>
            </p:grpSpPr>
            <p:sp>
              <p:nvSpPr>
                <p:cNvPr id="84" name="AutoShape 35"/>
                <p:cNvSpPr/>
                <p:nvPr/>
              </p:nvSpPr>
              <p:spPr>
                <a:xfrm>
                  <a:off x="609480" y="1600200"/>
                  <a:ext cx="1828800" cy="91440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Oil mixtu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Text Box 36"/>
                <p:cNvSpPr/>
                <p:nvPr/>
              </p:nvSpPr>
              <p:spPr>
                <a:xfrm>
                  <a:off x="2666880" y="1943280"/>
                  <a:ext cx="79992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Refin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Text Box 37"/>
                <p:cNvSpPr/>
                <p:nvPr/>
              </p:nvSpPr>
              <p:spPr>
                <a:xfrm>
                  <a:off x="3695400" y="1943280"/>
                  <a:ext cx="114264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Hydrogen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Text Box 38"/>
                <p:cNvSpPr/>
                <p:nvPr/>
              </p:nvSpPr>
              <p:spPr>
                <a:xfrm>
                  <a:off x="5067360" y="1943280"/>
                  <a:ext cx="68544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Blend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Text Box 39"/>
                <p:cNvSpPr/>
                <p:nvPr/>
              </p:nvSpPr>
              <p:spPr>
                <a:xfrm>
                  <a:off x="5981760" y="1943280"/>
                  <a:ext cx="91440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Emulsifi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AutoShape 40"/>
                <p:cNvSpPr/>
                <p:nvPr/>
              </p:nvSpPr>
              <p:spPr>
                <a:xfrm>
                  <a:off x="7124760" y="1600200"/>
                  <a:ext cx="1828800" cy="91440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Margarin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AutoShape 41"/>
                <p:cNvSpPr/>
                <p:nvPr/>
              </p:nvSpPr>
              <p:spPr>
                <a:xfrm>
                  <a:off x="3466800" y="2514600"/>
                  <a:ext cx="1485720" cy="57132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Catalys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AutoShape 42"/>
                <p:cNvSpPr/>
                <p:nvPr/>
              </p:nvSpPr>
              <p:spPr>
                <a:xfrm>
                  <a:off x="3466800" y="1142640"/>
                  <a:ext cx="1485720" cy="57132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Hydrog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AutoShape 43"/>
                <p:cNvSpPr/>
                <p:nvPr/>
              </p:nvSpPr>
              <p:spPr>
                <a:xfrm>
                  <a:off x="5753160" y="914400"/>
                  <a:ext cx="1485720" cy="79992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Fat free milk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AutoShape 44"/>
                <p:cNvSpPr/>
                <p:nvPr/>
              </p:nvSpPr>
              <p:spPr>
                <a:xfrm>
                  <a:off x="5753160" y="2514600"/>
                  <a:ext cx="1714680" cy="80028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Flavourings etc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Line 45"/>
                <p:cNvSpPr/>
                <p:nvPr/>
              </p:nvSpPr>
              <p:spPr>
                <a:xfrm>
                  <a:off x="2438280" y="2057400"/>
                  <a:ext cx="228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Line 46"/>
                <p:cNvSpPr/>
                <p:nvPr/>
              </p:nvSpPr>
              <p:spPr>
                <a:xfrm>
                  <a:off x="3466800" y="2057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Line 47"/>
                <p:cNvSpPr/>
                <p:nvPr/>
              </p:nvSpPr>
              <p:spPr>
                <a:xfrm>
                  <a:off x="4838400" y="2057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Line 48"/>
                <p:cNvSpPr/>
                <p:nvPr/>
              </p:nvSpPr>
              <p:spPr>
                <a:xfrm>
                  <a:off x="5753160" y="2057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Line 49"/>
                <p:cNvSpPr/>
                <p:nvPr/>
              </p:nvSpPr>
              <p:spPr>
                <a:xfrm>
                  <a:off x="6896160" y="2057400"/>
                  <a:ext cx="228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Line 50"/>
                <p:cNvSpPr/>
                <p:nvPr/>
              </p:nvSpPr>
              <p:spPr>
                <a:xfrm>
                  <a:off x="4209840" y="170676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Line 51"/>
                <p:cNvSpPr/>
                <p:nvPr/>
              </p:nvSpPr>
              <p:spPr>
                <a:xfrm>
                  <a:off x="6496200" y="1716120"/>
                  <a:ext cx="0" cy="23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Line 52"/>
                <p:cNvSpPr/>
                <p:nvPr/>
              </p:nvSpPr>
              <p:spPr>
                <a:xfrm flipV="1">
                  <a:off x="6610320" y="2287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2" name="Rectangle 53"/>
            <p:cNvSpPr/>
            <p:nvPr/>
          </p:nvSpPr>
          <p:spPr>
            <a:xfrm>
              <a:off x="1066680" y="3086280"/>
              <a:ext cx="1142640" cy="22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54"/>
            <p:cNvSpPr/>
            <p:nvPr/>
          </p:nvSpPr>
          <p:spPr>
            <a:xfrm>
              <a:off x="2323800" y="3086280"/>
              <a:ext cx="18288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Processes involv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AutoShape 55"/>
            <p:cNvSpPr/>
            <p:nvPr/>
          </p:nvSpPr>
          <p:spPr>
            <a:xfrm>
              <a:off x="952200" y="3429360"/>
              <a:ext cx="1028520" cy="34272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56"/>
            <p:cNvSpPr/>
            <p:nvPr/>
          </p:nvSpPr>
          <p:spPr>
            <a:xfrm>
              <a:off x="2095200" y="3429360"/>
              <a:ext cx="171468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Chemicals involv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5T19:45:16Z</dcterms:created>
  <dc:creator>M Tyrrell</dc:creator>
  <dc:description/>
  <dc:language>en-US</dc:language>
  <cp:lastModifiedBy>RomaK</cp:lastModifiedBy>
  <cp:lastPrinted>2002-03-05T22:45:04Z</cp:lastPrinted>
  <dcterms:modified xsi:type="dcterms:W3CDTF">2015-09-02T05:58:37Z</dcterms:modified>
  <cp:revision>16</cp:revision>
  <dc:subject/>
  <dc:title>13.6 Oils and Fats</dc:title>
</cp:coreProperties>
</file>